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2CE-B837-4A91-B56E-F20C47D4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9E3-F8E0-465C-B454-EBCFCD5A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B50-9EB5-407F-926C-31500C75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747-10FA-4B00-8F23-293A85A4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975-781F-4968-85C5-04A6F09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181-FD5C-478D-96F4-3514334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CEE-0E7E-42DD-930C-586579FE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187-3372-4505-AE3E-2710E12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EC1-AB47-4B89-9AA2-4855E4C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D99-159D-4A13-ADA7-019444E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6E1-792F-4254-BEEB-BF23490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1A3-654F-4F24-B730-51DC659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9C58-0276-4409-AC26-8F23CB26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51051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 студентка 4 курса филологического факультета КГП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арышева Тать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762120"/>
            <a:ext cx="70484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Times New Roman"/>
              </a:rPr>
              <a:t>7 чудес</a:t>
            </a:r>
            <a:endParaRPr b="1" lang="en-US" sz="80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80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Times New Roman"/>
              </a:rPr>
              <a:t>Древнего Рима </a:t>
            </a:r>
            <a:endParaRPr b="1" lang="en-US" sz="80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Есть ли чуде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на свете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акие чудеса есть в Древнем Ри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ак использовались чудеса в Древнем Ри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ем они были созд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огда эти чудеса были созд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27432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ставление результат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 rot="19012200">
            <a:off x="6019920" y="182844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16200000">
            <a:off x="3733560" y="152388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 rot="5400000">
            <a:off x="3771360" y="430524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741200">
            <a:off x="6095520" y="403812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8388000">
            <a:off x="1371240" y="411408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 rot="13389600">
            <a:off x="1295280" y="175176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04920" y="685800"/>
            <a:ext cx="15238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3352680" y="304920"/>
            <a:ext cx="16765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6781680" y="838080"/>
            <a:ext cx="1905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28600" y="4800600"/>
            <a:ext cx="160020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505320" y="5181480"/>
            <a:ext cx="15238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6781680" y="4724280"/>
            <a:ext cx="152424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будем изучать следующи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ору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Большой Ци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Форум Тра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Аквед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рмы Карак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анте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оли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790px-Panorama_Circus_Maximus"/>
          <p:cNvPicPr/>
          <p:nvPr/>
        </p:nvPicPr>
        <p:blipFill>
          <a:blip r:embed="rId1"/>
          <a:stretch/>
        </p:blipFill>
        <p:spPr>
          <a:xfrm>
            <a:off x="2743200" y="579132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Trajan_Forum"/>
          <p:cNvPicPr/>
          <p:nvPr/>
        </p:nvPicPr>
        <p:blipFill>
          <a:blip r:embed="rId2"/>
          <a:stretch/>
        </p:blipFill>
        <p:spPr>
          <a:xfrm>
            <a:off x="228600" y="990720"/>
            <a:ext cx="22096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kveduk"/>
          <p:cNvPicPr/>
          <p:nvPr/>
        </p:nvPicPr>
        <p:blipFill>
          <a:blip r:embed="rId3"/>
          <a:stretch/>
        </p:blipFill>
        <p:spPr>
          <a:xfrm>
            <a:off x="6934320" y="3352680"/>
            <a:ext cx="1874880" cy="140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0_39036_cc2567f5_L"/>
          <p:cNvPicPr/>
          <p:nvPr/>
        </p:nvPicPr>
        <p:blipFill>
          <a:blip r:embed="rId4"/>
          <a:stretch/>
        </p:blipFill>
        <p:spPr>
          <a:xfrm>
            <a:off x="228600" y="25909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h01407"/>
          <p:cNvPicPr/>
          <p:nvPr/>
        </p:nvPicPr>
        <p:blipFill>
          <a:blip r:embed="rId5"/>
          <a:stretch/>
        </p:blipFill>
        <p:spPr>
          <a:xfrm>
            <a:off x="7010280" y="914400"/>
            <a:ext cx="1623960" cy="22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vat77"/>
          <p:cNvPicPr/>
          <p:nvPr/>
        </p:nvPicPr>
        <p:blipFill>
          <a:blip r:embed="rId6"/>
          <a:stretch/>
        </p:blipFill>
        <p:spPr>
          <a:xfrm>
            <a:off x="6553080" y="5029200"/>
            <a:ext cx="2238480" cy="13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Italya_Kolizey"/>
          <p:cNvPicPr/>
          <p:nvPr/>
        </p:nvPicPr>
        <p:blipFill>
          <a:blip r:embed="rId7"/>
          <a:stretch/>
        </p:blipFill>
        <p:spPr>
          <a:xfrm>
            <a:off x="228600" y="4419720"/>
            <a:ext cx="1981080" cy="15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ределение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600200"/>
          <a:ext cx="8458200" cy="4541760"/>
        </p:xfrm>
        <a:graphic>
          <a:graphicData uri="http://schemas.openxmlformats.org/drawingml/2006/table">
            <a:tbl>
              <a:tblPr/>
              <a:tblGrid>
                <a:gridCol w="1981080"/>
                <a:gridCol w="2828880"/>
                <a:gridCol w="364824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Большой Цир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ум Трая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Аквед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Термы Карак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р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нте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лиз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3 НЕД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Этапы проведения проек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ыбор и формулировка тем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Поиск информаци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Самостоятельная работа учащихс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Защита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http://artclassic.edu.ru/catalog.asp?ob_no=19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http://historic.ru/books/item/f00/s00/z0000017/st019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Энциклопедия « Атлас чудес света. Современный мир»   ( Широнина 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  <a:ea typeface="Arial"/>
              </a:rPr>
              <a:t>Энциклопедия «Чудеса света. Древний мир» (Калашников В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9T04:52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